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C7E4-3641-421C-AC82-A8E96A03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44E18-80EE-4CC1-8645-5A4E818A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57F0A-C5A6-485F-9B9C-8F19418D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FBC80-FA75-467B-8BE3-C2559B1E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7007-3413-43D4-B754-5E34EB36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143C-3FAC-488C-9AFF-6DCB5EC6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E9CC-136F-4130-9976-6E606E4E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BCF8-5C6F-4ABC-8152-E8190CA9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A4D6-5653-44EA-BE7D-F0833D6A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DC56-B131-4446-A3B9-F0412431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0C53-8F49-4617-9BFF-46862D1D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9E275-3F46-4B7D-A0A2-D5B458BC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F052-575F-4784-930B-C464C237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CE44-F6F4-413E-BF08-629626A3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660E-1A8E-4CDE-B685-5757CDEF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0F78-AE56-44E3-A5AE-5AD18AB8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794E-9C9B-4066-A3D9-C52FE7B4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231E-9D88-4682-9863-0846D803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98B03-E44B-4840-BED6-E3D3E0FD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A8E2E-EA2A-4DEB-985A-7290F3D4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4BB59-B68D-425A-B55E-73C6DD71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ED070-0C2E-427B-97F9-0AA529A1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C09B2-596B-4053-A2A1-4F0BCBE0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B3186-4173-4056-BC84-657FB224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4FA7-ADDA-4424-BA5D-E634496A20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8E10-ACD7-4300-89B6-739393EE7F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038480" y="56386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tart the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762120"/>
            <a:ext cx="5410080" cy="761760"/>
          </a:xfrm>
          <a:custGeom>
            <a:avLst/>
            <a:gdLst>
              <a:gd name="textAreaLeft" fmla="*/ 49320 w 5410080"/>
              <a:gd name="textAreaRight" fmla="*/ 5360760 w 5410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53343" h="21600">
                <a:moveTo>
                  <a:pt x="0" y="0"/>
                </a:moveTo>
                <a:lnTo>
                  <a:pt x="153343" y="0"/>
                </a:lnTo>
                <a:lnTo>
                  <a:pt x="153343" y="21600"/>
                </a:lnTo>
                <a:lnTo>
                  <a:pt x="0" y="21600"/>
                </a:lnTo>
                <a:close/>
              </a:path>
              <a:path fill="lightenLess" w="153343" h="21600">
                <a:moveTo>
                  <a:pt x="0" y="0"/>
                </a:moveTo>
                <a:lnTo>
                  <a:pt x="153343" y="0"/>
                </a:lnTo>
                <a:lnTo>
                  <a:pt x="151943" y="1400"/>
                </a:lnTo>
                <a:lnTo>
                  <a:pt x="1400" y="1400"/>
                </a:lnTo>
                <a:close/>
              </a:path>
              <a:path fill="darken" w="153343" h="21600">
                <a:moveTo>
                  <a:pt x="153343" y="0"/>
                </a:moveTo>
                <a:lnTo>
                  <a:pt x="153343" y="21600"/>
                </a:lnTo>
                <a:lnTo>
                  <a:pt x="151943" y="20200"/>
                </a:lnTo>
                <a:lnTo>
                  <a:pt x="151943" y="1400"/>
                </a:lnTo>
                <a:close/>
              </a:path>
              <a:path fill="darkenLess" w="153343" h="21600">
                <a:moveTo>
                  <a:pt x="15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943" y="20200"/>
                </a:lnTo>
                <a:close/>
              </a:path>
              <a:path fill="lighten" w="15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Show Answers to Questions. Delete this button w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finished making answ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609480"/>
            <a:ext cx="838224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09480"/>
            <a:ext cx="160020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tem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609480"/>
            <a:ext cx="160020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tem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09480"/>
            <a:ext cx="160020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tem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609480"/>
            <a:ext cx="160020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tem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609480"/>
            <a:ext cx="160020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tem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295280"/>
            <a:ext cx="16002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2286000"/>
            <a:ext cx="16002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276720"/>
            <a:ext cx="16002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4267080"/>
            <a:ext cx="16002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5257800"/>
            <a:ext cx="16002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1295280"/>
            <a:ext cx="16002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286000"/>
            <a:ext cx="16002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3276720"/>
            <a:ext cx="16002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4267080"/>
            <a:ext cx="16002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5257800"/>
            <a:ext cx="16002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1295280"/>
            <a:ext cx="160020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2286000"/>
            <a:ext cx="160020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3276720"/>
            <a:ext cx="160020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4267080"/>
            <a:ext cx="160020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5257800"/>
            <a:ext cx="160020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1295280"/>
            <a:ext cx="1600200" cy="91440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2286000"/>
            <a:ext cx="1600200" cy="91440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3276720"/>
            <a:ext cx="1600200" cy="91440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4267080"/>
            <a:ext cx="1600200" cy="91440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5257800"/>
            <a:ext cx="1600200" cy="91440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1295280"/>
            <a:ext cx="160020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2286000"/>
            <a:ext cx="160020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3276720"/>
            <a:ext cx="160020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86600" y="4267080"/>
            <a:ext cx="160020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5257800"/>
            <a:ext cx="160020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-141480" y="609480"/>
            <a:ext cx="94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 Click in Box and erase the text and type your ques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53360" y="23353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swer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3:12:55Z</dcterms:created>
  <dc:creator>jnatale</dc:creator>
  <dc:description/>
  <dc:language>en-US</dc:language>
  <cp:lastModifiedBy>jnatale</cp:lastModifiedBy>
  <dcterms:modified xsi:type="dcterms:W3CDTF">2009-02-20T16:08:22Z</dcterms:modified>
  <cp:revision>20</cp:revision>
  <dc:subject/>
  <dc:title>Slide 1</dc:title>
</cp:coreProperties>
</file>